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ABC-3FBE-4CB7-BCD9-C5A932AB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84E-9B64-4A29-BE97-5051E49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24E-4450-4BED-8EC8-99C7CBD3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F12-8393-425F-935A-C4D5C9AF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A6C-F222-4704-807F-CDBBB888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4D6-E056-4DA5-8181-ADEF6E1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D3B-CC09-40DE-872B-01E1C0F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5A0-6CDB-47F1-908D-432B6D6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7A1-CFEF-43B2-93DE-DDE27CD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B70-6385-4723-85E5-A465BEF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2EB-47BD-43B8-9A40-3C7A6D0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9E5-2BAF-4A72-96D2-A69FC2FE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EFE8-6171-4D7D-9D97-15A6F44C5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vis Ger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study of wisdom and the right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2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nne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ChalcidiceM.gif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3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4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sheltered place along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5.bmp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untitled.bmp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2133720"/>
            <a:ext cx="9296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83808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imagesCALRYKBB.jpg"/>
          <p:cNvPicPr/>
          <p:nvPr/>
        </p:nvPicPr>
        <p:blipFill>
          <a:blip r:embed="rId1"/>
          <a:stretch/>
        </p:blipFill>
        <p:spPr>
          <a:xfrm>
            <a:off x="0" y="179532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imagesCARQVC6G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group of people who lived apart from Greece but kept economic ties with 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imagesCA0J26CE.jpg"/>
          <p:cNvPicPr/>
          <p:nvPr/>
        </p:nvPicPr>
        <p:blipFill>
          <a:blip r:embed="rId1"/>
          <a:stretch/>
        </p:blipFill>
        <p:spPr>
          <a:xfrm>
            <a:off x="0" y="2098800"/>
            <a:ext cx="9144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form of government where people vote to make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1.jpg"/>
          <p:cNvPicPr/>
          <p:nvPr/>
        </p:nvPicPr>
        <p:blipFill>
          <a:blip r:embed="rId1"/>
          <a:stretch/>
        </p:blipFill>
        <p:spPr>
          <a:xfrm>
            <a:off x="446040" y="1905120"/>
            <a:ext cx="8317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imagesCAX91KYB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2-28T21:51:07Z</dcterms:modified>
  <cp:revision>91</cp:revision>
  <dc:subject/>
  <dc:title>Ancient Greece</dc:title>
</cp:coreProperties>
</file>